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0B1-FAD3-4004-9C82-376DB52C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419-9162-404D-B313-33FD9502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6F4-A484-40EA-9B67-8C399E19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90B-F029-42C9-B4FA-888AD6FE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4F9FB-69E4-4368-94FB-A6E61F1E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8388F-E440-4B76-85B5-9D703243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B59F9-A81C-4564-A127-3E3B130A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5AF03-EFD9-4F1C-A17E-A4AC3948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4D300-474D-4C84-800F-13332444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14429-23DC-4D7F-B1FF-80116D13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48E0E-78EF-441C-9D9C-6C83F504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5A8-8F2D-4621-97AC-597A4CEF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56ECB-B1C2-40C9-A4CA-6241888E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3A19A-CE9C-46F6-B51A-5EA0A83A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5AA6D-28CB-4C52-A75D-410057A1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C8993-550D-4173-AFCC-F591E2FF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5E46A-AC3D-414A-AB38-369396C4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1B4-9EC8-4DA0-94F9-E171CB2D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C98-E3AB-48B8-974D-81A89452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923-6408-47C1-BF48-9A8C157A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AA1-70A7-484B-9276-AA8038D2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1AB-741D-4B10-AF2F-40ED6C71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E39-5310-4141-A6A6-6FA7D14F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587-5FE3-4FDC-A2B2-CF4CECC2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5D0-E3CC-4CD5-9DE4-05A57ED88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D95D-A72C-4884-80D4-F2D07AE0E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yth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ersus Matla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ic Freil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LS Research, In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gust 17,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lots of advice from John Peterson &amp;Paul Hurs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otting in Pyth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mport MATPLOTLI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full functionality of Matlab’s grap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it is sl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 mode is not intera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teractive mode is available through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yplot ion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ive mode is slower than stand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ython is comparable to Matlab in terms of function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ting a lot of effort in to optimizing Python might be necessary to beat Matl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ython might be better served as a wrap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Started with Pyth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ython and Matlab sample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 (not included in PowerPoi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ject Go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 the ease of using Pyth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 speed of Python to Matlab and Fort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 plotting tools to Matl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Python version of Bellh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Python wrapper for the Fortran version of Bellh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llel Processing t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ss to libr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ess whether or when HLS should use Pyth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tting Star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 to find an IDE similar to Matlab in functionality that is easy to ob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ed up typing in Notepad ++ and running in a command window (might not have been best approach but I found it to be the least frustrat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mple co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yth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rom numpy import 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 = array([1,2,3]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 = matrix([[1,2,3],[4,5,6],[7,8,9]]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 = range(3) + ones(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 = matrix(range(9) +ones(9)).reshape(3,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rray(Y[0,:])*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&gt; array([1, 4, 9]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[0,:]*mat(X).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&gt; matrix([[14]]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tlab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 = [1 2 3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 = [1 2 3;4 5 6;7 8 9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 = 1: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 = reshape(1:9,3,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(1,:).*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&gt; [1 4 9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(1,:)*X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&gt; 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ays and Matrices are very different in Pyth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 that Y[0,:]*mat(X).T is actually a matrix, not a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and data structures in Python more complicated (ie. Array of real floats cant take a complex numb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tlab and Python’s Performance on Plankt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1905120"/>
          <a:ext cx="8305920" cy="403848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FT of a 4096 array 1,000 ti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lesky Decomposition of a 256 x 256 matrix 1,000 ti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VD of a 256 x 256 matrix 10 ti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la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e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8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yth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e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ython’s Timing Progr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ort mat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rom numpy import *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rom numpy.fft import ff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rom scipy.linalg import cholesky,sv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ort timei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ort array as ar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id = open('cholesky_matrix.mat','r'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mp = ar.array('f'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mp.read(fid,256**2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 =mat(array(temp).reshape(256,256)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id.close(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f fft_loop(N):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x = range(4096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or i in range(N)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y = fft(x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f sin_loop(N):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or i in range(N)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y = sin(i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f cholesky_loop(A,N)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or i in range(N)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x = cholesky(A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f svd_loop(A,N)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or i in range(N)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[u,s,v] = svd(A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# N varies according to trial ru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N = 10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imer = timeit.Timer(setup='from __main__ import N,A, cholesky_loop',\stmt='cholesky_loop(A,N)'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imes = timer.repeat(repeat=20,number=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 "---Summary of individual run times---“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or i in range(len(times))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 "%3d, %.7f" % ((i+1), times[i]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 "---Summary Statistics---"print "Minimum... %.7f" % (min(times)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 "Maximum... %.7f" % (max(times)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 "Median.... %.7f" % (median(times)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 "Mean...... %.7f" % (mean(times)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 "Total..... %.7f" % (sum(times)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lab’s Timing Progr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 = 100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repeat = 2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s = zeros(nrepeat,1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= zeros(256,256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id = fopen('cholesky_matrix.mat','r'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= fread(fid, 256^2, 'float32'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= reshape(A,256,256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close(fid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 i = 1:n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c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olesky_loop(A,N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s(i) = toc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printf('---Summary of individual r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s---\n'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 i = 1:n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printf('%3d %.7f\n',i,times(i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printf('---Summary Statistics---\n'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printf('Minimum... %.7f\n', min(times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printf('Maximum... %.7f\n', max(times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printf('Median.... %.7f\n', median(times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printf('Mean...... %.7f\n', mean(times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printf('Total..... %.7f\n', sum(times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23:45:53Z</dcterms:created>
  <dc:creator>eric</dc:creator>
  <dc:description/>
  <dc:language>en-US</dc:language>
  <cp:lastModifiedBy>eric</cp:lastModifiedBy>
  <dcterms:modified xsi:type="dcterms:W3CDTF">2009-08-17T22:40:04Z</dcterms:modified>
  <cp:revision>11</cp:revision>
  <dc:subject/>
  <dc:title>Python VS Matlab</dc:title>
</cp:coreProperties>
</file>